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41D-65D6-4195-B552-617ADB58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0E8-D980-4980-812D-8E5EC818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BA1-6398-448E-8280-BCC68E26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A9F1-3A64-4465-9C48-72D937AA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54F-F441-4C5B-8B08-B1B59FCE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505-4D60-49A6-A0AA-6E75203A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3EB-1093-475A-BBE2-EA4B3CF5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611-300D-4152-8FA5-A4202178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48C3-7435-4D61-A709-A81E9329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1A3-3D7E-4C8A-8E9F-5125C506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DE1-630F-4086-A2C8-F5A77B64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AAF-AA78-4F91-8880-63901E78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6DBF-273A-460C-855C-8E7B5ADA2A84}" type="slidenum"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755640" y="19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3042b"/>
                </a:solidFill>
                <a:latin typeface="Trebuchet MS"/>
                <a:cs typeface="AL-Mateen"/>
              </a:rPr>
              <a:t>الملتقى الأول للتجارب المتميز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3042b"/>
                </a:solidFill>
                <a:latin typeface="Trebuchet MS"/>
                <a:cs typeface="AL-Mateen"/>
              </a:rPr>
              <a:t>للجمعيات الخيرية السعودية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332000" y="4869000"/>
            <a:ext cx="64008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3042b"/>
                </a:solidFill>
                <a:latin typeface="Trebuchet MS"/>
                <a:cs typeface="AL-Mateen"/>
              </a:rPr>
              <a:t>جامعة المجم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3042b"/>
                </a:solidFill>
                <a:latin typeface="Trebuchet MS"/>
                <a:cs typeface="AL-Mateen"/>
              </a:rPr>
              <a:t>الاثنين </a:t>
            </a:r>
            <a:r>
              <a:rPr b="0" lang="ar-SA" sz="3200" spc="-1" strike="noStrike">
                <a:solidFill>
                  <a:srgbClr val="03042b"/>
                </a:solidFill>
                <a:latin typeface="Trebuchet MS"/>
                <a:ea typeface="AL-Mateen"/>
              </a:rPr>
              <a:t>11</a:t>
            </a:r>
            <a:r>
              <a:rPr b="0" lang="ar-SA" sz="3200" spc="-1" strike="noStrike">
                <a:solidFill>
                  <a:srgbClr val="03042b"/>
                </a:solidFill>
                <a:latin typeface="Trebuchet MS"/>
                <a:ea typeface="AL-Mateen"/>
              </a:rPr>
              <a:t> صفر </a:t>
            </a:r>
            <a:r>
              <a:rPr b="0" lang="ar-SA" sz="3200" spc="-1" strike="noStrike">
                <a:solidFill>
                  <a:srgbClr val="03042b"/>
                </a:solidFill>
                <a:latin typeface="Trebuchet MS"/>
                <a:ea typeface="AL-Mateen"/>
              </a:rPr>
              <a:t>1434</a:t>
            </a:r>
            <a:r>
              <a:rPr b="0" lang="ar-SA" sz="3200" spc="-1" strike="noStrike">
                <a:solidFill>
                  <a:srgbClr val="03042b"/>
                </a:solidFill>
                <a:latin typeface="Trebuchet MS"/>
                <a:cs typeface="AL-Mateen"/>
              </a:rPr>
              <a:t>ه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C:\Users\o.okasha\Desktop\الملتقى\Untitled-2.jpg"/>
          <p:cNvPicPr/>
          <p:nvPr/>
        </p:nvPicPr>
        <p:blipFill>
          <a:blip r:embed="rId1"/>
          <a:stretch/>
        </p:blipFill>
        <p:spPr>
          <a:xfrm>
            <a:off x="4059360" y="828720"/>
            <a:ext cx="950760" cy="682560"/>
          </a:xfrm>
          <a:prstGeom prst="rect">
            <a:avLst/>
          </a:prstGeom>
          <a:ln w="0">
            <a:noFill/>
          </a:ln>
        </p:spPr>
      </p:pic>
      <p:pic>
        <p:nvPicPr>
          <p:cNvPr id="82" name="صورة 8" descr="majmaah-logo.png"/>
          <p:cNvPicPr/>
          <p:nvPr/>
        </p:nvPicPr>
        <p:blipFill>
          <a:blip r:embed="rId2"/>
          <a:stretch/>
        </p:blipFill>
        <p:spPr>
          <a:xfrm>
            <a:off x="6875640" y="692280"/>
            <a:ext cx="1771560" cy="866520"/>
          </a:xfrm>
          <a:prstGeom prst="rect">
            <a:avLst/>
          </a:prstGeom>
          <a:ln w="0">
            <a:noFill/>
          </a:ln>
        </p:spPr>
      </p:pic>
      <p:pic>
        <p:nvPicPr>
          <p:cNvPr id="83" name="صورة 9" descr="mohe_2012_12.png"/>
          <p:cNvPicPr/>
          <p:nvPr/>
        </p:nvPicPr>
        <p:blipFill>
          <a:blip r:embed="rId3"/>
          <a:stretch/>
        </p:blipFill>
        <p:spPr>
          <a:xfrm>
            <a:off x="468360" y="765000"/>
            <a:ext cx="1990800" cy="6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7524720" y="-49320"/>
            <a:ext cx="138276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اسم الجه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01040" y="1899000"/>
            <a:ext cx="83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جمع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تيسير الزواج والرعاية الأسرية في محافظة عنيز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7118280" y="263520"/>
            <a:ext cx="2075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اسم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-104040" y="1982520"/>
            <a:ext cx="935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خطة الإستراتيجية لجمع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تيسير الزواج والرعاية الأسرية في محافظة عنيز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6929640" y="263520"/>
            <a:ext cx="22320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أهمية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مستطيل 3"/>
          <p:cNvSpPr/>
          <p:nvPr/>
        </p:nvSpPr>
        <p:spPr>
          <a:xfrm>
            <a:off x="468360" y="1700280"/>
            <a:ext cx="806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mbria"/>
                <a:cs typeface="AL-Mohanad"/>
              </a:rPr>
              <a:t>العمل في بيئة شفافة ، تتميز بوضوح الرؤية ، تتسيد فيها روح المؤسسات ، بإتباع خطوات ،سعياً لتحقيق أهداف واضحة ومحددة ، وحصر الاجتهادات الفردية في أضيق الـحدود لتـحقيق أهداف الجمعية بالقدر المتاح من الموارد</a:t>
            </a:r>
            <a:r>
              <a:rPr b="0" lang="ar-SA" sz="3200" spc="-1" strike="noStrike">
                <a:solidFill>
                  <a:srgbClr val="000000"/>
                </a:solidFill>
                <a:latin typeface="Cambria"/>
                <a:ea typeface="AL-Mohana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6808320" y="263520"/>
            <a:ext cx="23828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أهداف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-1024560" y="2319480"/>
            <a:ext cx="1119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"/>
              </a:rPr>
              <a:t>المحافظة على تماسك وحدة بناء المجتمع  (الأسرة) ، وتنميتها وتفعيل دوره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"/>
              </a:rPr>
              <a:t>في تشكيل شخصيات الأفراد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6667200" y="263520"/>
            <a:ext cx="2521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إجراءات التنفي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900000" y="144072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ohanad"/>
              </a:rPr>
              <a:t>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لمرحلة الأولى : تحديد هوية الجمعية وتحديد التوجه الاستراتيج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مستطيل 3"/>
          <p:cNvSpPr/>
          <p:nvPr/>
        </p:nvSpPr>
        <p:spPr>
          <a:xfrm>
            <a:off x="1476360" y="20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المرحلة الثانية : تحليل البيئة الداخلية والخارج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مستطيل 4"/>
          <p:cNvSpPr/>
          <p:nvPr/>
        </p:nvSpPr>
        <p:spPr>
          <a:xfrm>
            <a:off x="4598640" y="2637000"/>
            <a:ext cx="45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مرحلة الثالثة  : تحديد الأهداف التفصيلية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42920" y="2958120"/>
            <a:ext cx="49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مرحلة الرابعة : بناء الهيكل وتحديد المهام والصلاحيات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مستطيل 6"/>
          <p:cNvSpPr/>
          <p:nvPr/>
        </p:nvSpPr>
        <p:spPr>
          <a:xfrm>
            <a:off x="3780000" y="371628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المرحلة الخامسة : التطبيق الجزئي المقترن بقياس الأداء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187280" y="4413600"/>
            <a:ext cx="47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المرحلة السادسة : المراجعة النهائية بعد انتهاء المرحلة الانتقالي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6924240" y="263520"/>
            <a:ext cx="2084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نتائج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6037920" y="235440"/>
            <a:ext cx="31723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شواهد نجاح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6171120" y="307800"/>
            <a:ext cx="31158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mbria"/>
                <a:cs typeface="AL-Mateen"/>
              </a:rPr>
              <a:t>شواهد تميز التجرب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08:53:38Z</dcterms:created>
  <dc:creator>o.okasha</dc:creator>
  <dc:description/>
  <cp:keywords>Education</cp:keywords>
  <dc:language>en-US</dc:language>
  <cp:lastModifiedBy>o.okasha</cp:lastModifiedBy>
  <dcterms:modified xsi:type="dcterms:W3CDTF">2012-12-23T14:18:26Z</dcterms:modified>
  <cp:revision>7</cp:revision>
  <dc:subject>Template Ready</dc:subject>
  <dc:title>الشريحة 1</dc:title>
</cp:coreProperties>
</file>